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75D-518A-4148-ABF5-2E90F008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127-BAAB-4448-9F99-6D71C475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69A-4D8A-4FE5-9A85-A4C5DC05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812-2130-4658-AEBA-D91FE4D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8695-848B-4B4F-AFA3-BA504E7D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3F3-9E84-4D9F-A8F5-BC20BBC6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D16-4CB1-4B53-86C9-6B5848CA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C114-1914-46EF-9BD1-2DD4203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E07-0F67-4DB0-8E80-26915D7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EB91-E2ED-449B-B213-2D438EC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F42-5E5A-47E0-827C-17F720E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5EC-08B0-44B9-8EB2-7AE5EFE6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D637-A9DB-4650-B3B2-2E0AE81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340F-1370-4F37-9883-244C6C1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4011-C027-4460-B0F4-9F20BB9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7698-615D-4FF4-84D6-219DF6A0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201-1839-4635-8258-1AC0BD18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7495-A2C3-4954-BBB8-E6A53AB0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CBAE-A239-4427-88DC-A4B92E83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B7BA-F81F-4FA9-A7F0-19345F4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6A9A-9DDE-4FCC-BC41-950205D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3991-5B8D-4619-BA64-9F6D5670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6E6-13A0-4268-9E40-19B2A790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C543-B36B-4DDB-BC8F-61507CFE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02FC-20E2-4C21-A618-399CB3C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4B29-B411-4A6F-8B1E-CCEAABF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DB37-7E77-4821-9B51-5D0A603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E09B-D2E0-4F70-8673-E7FFAD0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A95D-0EE3-44EF-9ADC-4C321D77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E7E0-CBAB-4400-BBF3-124827FB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1851-7C64-4935-8901-9DE0737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3F08-438A-4040-B9D9-7BF901E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7A87-6DE0-4805-9316-DF07F68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D10-21FE-4E02-A666-0E3813F7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CD8D-F374-4BEB-816B-B7452F9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0DFA-1C53-4007-A980-6306765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8B9A-CD27-46B8-8C51-381BA80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A472-9465-4CFA-AE34-2E5B142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81BD-F718-45BC-8256-369AD31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77E5-3E66-420E-A674-73634A7B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FA59-461B-4A3F-9F0A-8B6A8865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2206-1ED1-487E-9506-8AAF47B7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E56E-9B13-4D9B-A78B-33C181BE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F26-B509-447E-B864-CDB157F8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687-C99A-4A31-9160-ECE0409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37C-2970-4297-BBD6-57002FC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E18-6709-4BC4-A9DC-A0AA451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6B4-F9ED-4B08-84FB-50EC139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5853-FC92-44E9-AF53-294E4ED1FB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D8E-0BFC-4BCD-B0ED-710CF78D30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07BC-1E12-431D-9F0C-060EFFFC4E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956-95AE-418B-BCAA-2D2FE54106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8832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полнила студентка 636 группы Горбунова Н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Моллюски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 тип моллюск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Моллюск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ипичные водные живот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ный мешоч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ит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 микроскопические животные; растительные и животные остат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ые и пресноводные воды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Насекомые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ип Членистоногие, класс Насекомые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Насеком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самый многочисленный класс на Зем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юш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ло покрыто прочным хитиновым покро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Пит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нообраз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D:\натташа\картинки\Для презентаций\Насекомые\Ползающие\ANTHILL.jpg"/>
          <p:cNvPicPr/>
          <p:nvPr/>
        </p:nvPicPr>
        <p:blipFill>
          <a:blip r:embed="rId1"/>
          <a:stretch/>
        </p:blipFill>
        <p:spPr>
          <a:xfrm>
            <a:off x="7643880" y="785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натташа\картинки\Для презентаций\Насекомые\Летающие\YELLOWJA.jpg"/>
          <p:cNvPicPr/>
          <p:nvPr/>
        </p:nvPicPr>
        <p:blipFill>
          <a:blip r:embed="rId2"/>
          <a:stretch/>
        </p:blipFill>
        <p:spPr>
          <a:xfrm>
            <a:off x="7643880" y="5357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D:\натташа\картинки\Для презентаций\Насекомые\Летающие\FLYIN003.jpg"/>
          <p:cNvPicPr/>
          <p:nvPr/>
        </p:nvPicPr>
        <p:blipFill>
          <a:blip r:embed="rId3"/>
          <a:stretch/>
        </p:blipFill>
        <p:spPr>
          <a:xfrm>
            <a:off x="857160" y="292896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Жуки </a:t>
            </a:r>
            <a:br>
              <a:rPr sz="4500"/>
            </a:b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Членистоногие, класс Насекомые, отряд Жесткокрылые, или Жу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у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чень большой и разнообразный отряд Насеком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оение тел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ве – ротовой аппарат, глаза ,ус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– три пары членистых конечностей и две пары крыл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– роющие, бегающие или плавающ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а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листья, почва, корень, ствол дерева,  плод, цветок, сем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натташа\картинки\Для презентаций\Насекомые\Ползающие\COCKROAC.jpg"/>
          <p:cNvPicPr/>
          <p:nvPr/>
        </p:nvPicPr>
        <p:blipFill>
          <a:blip r:embed="rId1"/>
          <a:stretch/>
        </p:blipFill>
        <p:spPr>
          <a:xfrm>
            <a:off x="6429240" y="3571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Амфибии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Хордовые, подтип Позвоночные, класс Амфибии, или Земноводные, отряд Бесхвостые, род лягушки, род Жабы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Скругленный прямоугольник 3"/>
          <p:cNvGrpSpPr/>
          <p:nvPr/>
        </p:nvGrpSpPr>
        <p:grpSpPr>
          <a:xfrm>
            <a:off x="712800" y="2610000"/>
            <a:ext cx="2432160" cy="3571560"/>
            <a:chOff x="712800" y="2610000"/>
            <a:chExt cx="2432160" cy="357156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1280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967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Безног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(Амфиб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Похожи на Змей. нет конеч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По строению кожи, способу размножения и дыхания они являются Земноводны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Скругленный прямоугольник 7"/>
          <p:cNvGrpSpPr/>
          <p:nvPr/>
        </p:nvGrpSpPr>
        <p:grpSpPr>
          <a:xfrm>
            <a:off x="3352680" y="2610000"/>
            <a:ext cx="2438640" cy="3571560"/>
            <a:chOff x="3352680" y="2610000"/>
            <a:chExt cx="2438640" cy="3571560"/>
          </a:xfrm>
        </p:grpSpPr>
        <p:pic>
          <p:nvPicPr>
            <p:cNvPr id="21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352680" y="2610000"/>
              <a:ext cx="243864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40240" y="2754360"/>
              <a:ext cx="20635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Хвостат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( Трито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Легко живут в неволе. Но требуют к себе очень большого вним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Скругленный прямоугольник 8"/>
          <p:cNvGrpSpPr/>
          <p:nvPr/>
        </p:nvGrpSpPr>
        <p:grpSpPr>
          <a:xfrm>
            <a:off x="5999040" y="2610000"/>
            <a:ext cx="2432160" cy="3571560"/>
            <a:chOff x="5999040" y="2610000"/>
            <a:chExt cx="2432160" cy="357156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99904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833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Бесхвостые (Лягушки и Жаб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Рекомендуется знакомить детей этим отрядом подробн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птилии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( пресмыкающиеся)</a:t>
            </a: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тряда: Змеи, Ящерицы, Крокодилы, Черепах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Черепах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тип Хордовые, подтип Позвоночные, класс Рептилии, или Пресмыкающиеся, отряд Черепах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ная черепаха – степные, полупустынные регионы Средней Азии и Казахст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черепахи – европейская часть России, Приморье, Кав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D:\натташа\картинки\Коллекция картинок 3(Microsoft)\j0356644.gif"/>
          <p:cNvPicPr/>
          <p:nvPr/>
        </p:nvPicPr>
        <p:blipFill>
          <a:blip r:embed="rId1"/>
          <a:stretch/>
        </p:blipFill>
        <p:spPr>
          <a:xfrm>
            <a:off x="785880" y="335772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Times New Roman"/>
              </a:rPr>
              <a:t>Спасибо за </a:t>
            </a: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Times New Roman"/>
              </a:rPr>
              <a:t>внимание!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6:37Z</dcterms:created>
  <dc:creator>Admin</dc:creator>
  <dc:description/>
  <dc:language>en-US</dc:language>
  <cp:lastModifiedBy>Serg</cp:lastModifiedBy>
  <dcterms:modified xsi:type="dcterms:W3CDTF">2010-07-08T15:10:49Z</dcterms:modified>
  <cp:revision>5</cp:revision>
  <dc:subject/>
  <dc:title>Слайд 1</dc:title>
</cp:coreProperties>
</file>